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2.jpeg" ContentType="image/jpeg"/>
  <Override PartName="/ppt/media/image1.jpeg" ContentType="image/jpeg"/>
  <Override PartName="/ppt/media/image4.gif" ContentType="image/gi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368-BCBE-42E3-8BDD-24A2B140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FFB-03BB-4222-8D5E-686274A6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4B0-63EA-40D4-A67E-EE6EC89E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C56-9CD3-43E3-8F73-745F24BD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AC9-6B6B-44B7-BBCF-4E18EB1B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7AB-CBCE-4EA9-96EB-299D3238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FC9-CAF2-4E05-B37A-9082B082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B07-EEEC-4446-BBB6-4F8E855B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797-1AC8-4CEE-AF37-71702A1E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A26-2934-4763-A2E9-09F26C0A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185-5244-4887-ACA7-EBA48A1D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28B-D321-45BC-9826-2F63B408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F7A9-951F-4FCF-BDD7-72F9EA6D64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ногообразие и биоэкологические особенности беспозвоночных животных (моллюски, улитки), насекомые (жуки, бабочки, стрекозы)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Рисунок 5" descr="Image.jpeg"/>
          <p:cNvPicPr/>
          <p:nvPr/>
        </p:nvPicPr>
        <p:blipFill>
          <a:blip r:embed="rId2"/>
          <a:stretch/>
        </p:blipFill>
        <p:spPr>
          <a:xfrm>
            <a:off x="6443640" y="4838760"/>
            <a:ext cx="2700360" cy="20192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3138_thumb[1].gif"/>
          <p:cNvPicPr/>
          <p:nvPr/>
        </p:nvPicPr>
        <p:blipFill>
          <a:blip r:embed="rId3"/>
          <a:stretch/>
        </p:blipFill>
        <p:spPr>
          <a:xfrm>
            <a:off x="0" y="0"/>
            <a:ext cx="1714680" cy="202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Бронзов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Содержимое 4" descr="800px-Cetonia_aurata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Научная классифик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Цар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Живот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Тип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Членистоноги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од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Открыточелюст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Инфра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рылатые 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д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овокрылые 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Жесткокрыл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од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Разноядные жук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Инфра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Scarabaeiformi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дсемей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Скарабеоид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Семей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ластинчатоус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одсемей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Бронзовк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Рисунок 4" descr="686px-Escaravellos_Beetles_GFDL.jpg"/>
          <p:cNvPicPr/>
          <p:nvPr/>
        </p:nvPicPr>
        <p:blipFill>
          <a:blip r:embed="rId2"/>
          <a:stretch/>
        </p:blipFill>
        <p:spPr>
          <a:xfrm>
            <a:off x="6000840" y="1500120"/>
            <a:ext cx="3143160" cy="3643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Лимонниц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Содержимое 3" descr="Pg-19-butterfly-ala_163211s.jpg"/>
          <p:cNvPicPr/>
          <p:nvPr/>
        </p:nvPicPr>
        <p:blipFill>
          <a:blip r:embed="rId1"/>
          <a:stretch/>
        </p:blipFill>
        <p:spPr>
          <a:xfrm>
            <a:off x="1638360" y="1859040"/>
            <a:ext cx="5867280" cy="4010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Научная классификац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Царство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Животные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Тип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Членистоногие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Класс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Насекомые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Подкласс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Крылатые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Надотряд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Amphiesmenopter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Отряд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Чешуекрылые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Семейство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Белянки (бабочки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Род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Лимонницы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Вид: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Крушинница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Рисунок 3" descr="11.jpg"/>
          <p:cNvPicPr/>
          <p:nvPr/>
        </p:nvPicPr>
        <p:blipFill>
          <a:blip r:embed="rId1"/>
          <a:stretch/>
        </p:blipFill>
        <p:spPr>
          <a:xfrm>
            <a:off x="5948280" y="4357800"/>
            <a:ext cx="3195720" cy="2500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i.jpeg"/>
          <p:cNvPicPr/>
          <p:nvPr/>
        </p:nvPicPr>
        <p:blipFill>
          <a:blip r:embed="rId2"/>
          <a:stretch/>
        </p:blipFill>
        <p:spPr>
          <a:xfrm>
            <a:off x="6072120" y="85716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Жук-плавунец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Содержимое 4" descr="slide0007_image008.jpg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Особенности подбора насекомых в живые уголки разных возрастных групп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олотова Е.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накомим дошкольников с миром животных: из опыта работы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Рисунок 3" descr="Nymphalis.jpg"/>
          <p:cNvPicPr/>
          <p:nvPr/>
        </p:nvPicPr>
        <p:blipFill>
          <a:blip r:embed="rId1"/>
          <a:stretch/>
        </p:blipFill>
        <p:spPr>
          <a:xfrm>
            <a:off x="2214720" y="4003560"/>
            <a:ext cx="4859280" cy="28544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насекомы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я младшая группа.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знавать и знать название 1—2 насекомых: бабочка, жук. Знать, что они летают, у них есть крыль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яя группа. 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меть называть некоторых насекомых (муравей, бабочка, жук, божья коровка), особенности их внешнего вида и движений (бабочка, жук имеют крылья; бабочка летает, муравей ползает, жук и летает, и ползает). Знакомить детей со звуками, характерными для насекомых (жук жужжит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ршая групп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нать, что бабочка, жук, пчела, муравей, кузнечик, стрекоза — насекомые. Иметь представление о некоторых особенностях внешнего вида (форма тела, количество ног, наличие крыльев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равнивать насекомых по способу передвижения (пчела, муха, стрекоза — летают, кузнечик прыгает). Определять насекомых по издаваемым звукам и правильно называть (пчела, муха, жук — жуж­жат, кузнечик — стрекочет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нать некоторые особенности сезонной жизни, места обитания (муравьи, пчелы живут большими группами, сами себе строят жилища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чела, муравей — полезные насекомые. Их нельзя уничтожать. 1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вести детей к пониманию некоторых защитных свойств насекомых (зеленый кузнечик на зеленой траве незаметен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ая к школе группа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зличать по внешнему виду и правильно называть бабочек (капустница, крапивница, павлиний глаз); жуков (божья коровка-, жужелица). Сравнивая, находить различие во внешнем виде (у бабочки крылья мягкие, у жука сверху плотные, под ними мягкие и прозрачные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должать сравнивать насекомых по способу передвижения (бабочка, жук, пчела, муха, стрекоза, оса, шмель — летают, кузнечик прыгает. Жук, муха и муравей ползают). Называть характерные звуки насекомых (жужжит, стрекочет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нать цикл развития бабочки (откладывает яйца на растениях, из них появляются гусеницы, из гусениц — куколки, а из куколок бабочки). На основе строения тела различных представителей формировать у детей обобщенное понятие — насекомые (у них шесть ног. Их еще называют шестиногие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едставлять себе, чем питаются насекомые (бабочка, пче­ла — соком цветов, муравьи — гусеницами, стрекоза — комарами. Майский жук ест листья деревьев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нать, что муравьи и пчелы живут большими семьями (муравьи в лесу строят муравейники, а пчелы в дуплах — гнезда, человек делает для них ульи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меть представление о полезности некоторых насекомых (человек приручил пчел — они дают мед; муравьи очищают лес, съедают вредных гусениц; божья коровка, жужелица поедают вредителей растений). Полезных насекомых надо оберегать, охра­нять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нать некоторые формы защиты насекомых: покровитель­ственная окраска, химическая защита (например, едкие выделения божьей коровки и жужелицы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4" descr="15.jpg"/>
          <p:cNvPicPr/>
          <p:nvPr/>
        </p:nvPicPr>
        <p:blipFill>
          <a:blip r:embed="rId1"/>
          <a:stretch/>
        </p:blipFill>
        <p:spPr>
          <a:xfrm>
            <a:off x="3214800" y="2428920"/>
            <a:ext cx="2857320" cy="34052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Беспозвоночны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Содержимое 5" descr="f_1526603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еспозвоночные животные  рекомендованные держать в уголках живой природы детских садов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оллюски- катушки, лужанки и фризы, которые целесообразно держать в аквариумах вместе с рыбк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Содержимое 3" descr="180px-Nautilus.jpg"/>
          <p:cNvPicPr/>
          <p:nvPr/>
        </p:nvPicPr>
        <p:blipFill>
          <a:blip r:embed="rId1"/>
          <a:stretch/>
        </p:blipFill>
        <p:spPr>
          <a:xfrm>
            <a:off x="1714680" y="3929040"/>
            <a:ext cx="507204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Улит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Содержимое 3" descr="1220323346_0.jpg"/>
          <p:cNvPicPr/>
          <p:nvPr/>
        </p:nvPicPr>
        <p:blipFill>
          <a:blip r:embed="rId2"/>
          <a:stretch/>
        </p:blipFill>
        <p:spPr>
          <a:xfrm>
            <a:off x="1643040" y="1714680"/>
            <a:ext cx="5429160" cy="414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Насекомы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дни из самых древних представителей животного мира. И одновременно самыми многочисленными по видовому разнообразию являются насекомы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Рисунок 4" descr="6b.jpg"/>
          <p:cNvPicPr/>
          <p:nvPr/>
        </p:nvPicPr>
        <p:blipFill>
          <a:blip r:embed="rId1"/>
          <a:stretch/>
        </p:blipFill>
        <p:spPr>
          <a:xfrm>
            <a:off x="1357200" y="3929040"/>
            <a:ext cx="6731280" cy="29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Кто такие насекомые? И почему они так называются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Это всем нам хорошо известные бабочки, жуки ,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стрекозы, кузнечики, пчёлы, комары, мухи,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тараканы и многие другие. Тело насекомых состоит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из трёх заметно разделённых частей: голова, грудь,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брюшко. Всё части тела как бы насечены на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сегменты, отсюда и название- насекомых. Все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насекомые имеют шесть ножек, одну или две пары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перепончатых крылышек и два усика (антенны),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размещённые на голове и служащие органами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чувств - обоняние и осязание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Рисунок 3" descr="843916.jpg"/>
          <p:cNvPicPr/>
          <p:nvPr/>
        </p:nvPicPr>
        <p:blipFill>
          <a:blip r:embed="rId1"/>
          <a:stretch/>
        </p:blipFill>
        <p:spPr>
          <a:xfrm>
            <a:off x="7572240" y="52862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Божья коров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Содержимое 3" descr="30.jpg"/>
          <p:cNvPicPr/>
          <p:nvPr/>
        </p:nvPicPr>
        <p:blipFill>
          <a:blip r:embed="rId1"/>
          <a:stretch/>
        </p:blipFill>
        <p:spPr>
          <a:xfrm>
            <a:off x="1714680" y="1428840"/>
            <a:ext cx="5715000" cy="45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Научная классифик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Цар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Живот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Тип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Членистоноги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од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Открыточелюст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Инфракласс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рылатые 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д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овокрылые насеком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Жесткокрыл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Под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Разноядные жук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Инфраотряд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укуйиформ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Надсемей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Кукуйоидные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Семейство: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Божьи коровк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Рисунок 3" descr="lbird2.gif"/>
          <p:cNvPicPr/>
          <p:nvPr/>
        </p:nvPicPr>
        <p:blipFill>
          <a:blip r:embed="rId2"/>
          <a:stretch/>
        </p:blipFill>
        <p:spPr>
          <a:xfrm>
            <a:off x="6215040" y="1857240"/>
            <a:ext cx="2500200" cy="271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Домик для Божьей коров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Содержимое 14" descr="lady_tower2.jpg"/>
          <p:cNvPicPr/>
          <p:nvPr/>
        </p:nvPicPr>
        <p:blipFill>
          <a:blip r:embed="rId1"/>
          <a:stretch/>
        </p:blipFill>
        <p:spPr>
          <a:xfrm>
            <a:off x="428760" y="1571760"/>
            <a:ext cx="2357280" cy="3714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5" descr="ladyb_nestbox_l.jpg"/>
          <p:cNvPicPr/>
          <p:nvPr/>
        </p:nvPicPr>
        <p:blipFill>
          <a:blip r:embed="rId2"/>
          <a:stretch/>
        </p:blipFill>
        <p:spPr>
          <a:xfrm>
            <a:off x="2786040" y="1571760"/>
            <a:ext cx="2786040" cy="3717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6" descr="lbird_fd.jpg"/>
          <p:cNvPicPr/>
          <p:nvPr/>
        </p:nvPicPr>
        <p:blipFill>
          <a:blip r:embed="rId3"/>
          <a:stretch/>
        </p:blipFill>
        <p:spPr>
          <a:xfrm>
            <a:off x="5500800" y="1571760"/>
            <a:ext cx="2476440" cy="37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1:45:29Z</dcterms:created>
  <dc:creator>Женечка ))))</dc:creator>
  <dc:description/>
  <dc:language>en-US</dc:language>
  <cp:lastModifiedBy>user</cp:lastModifiedBy>
  <dcterms:modified xsi:type="dcterms:W3CDTF">2010-06-06T09:00:29Z</dcterms:modified>
  <cp:revision>24</cp:revision>
  <dc:subject/>
  <dc:title>Многообразие и биоэкологические особенности беспозвоночных животных (моллюски, улитки), насекомые (жуки, бабочки, стрекозы).</dc:title>
</cp:coreProperties>
</file>